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B230-A73E-466A-90E4-F85E8DF792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5440" y="6140520"/>
            <a:ext cx="723276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Z2010: Stand der Arbeiten und nächste Termin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chel Fritsc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census@bfs.admin.ch" TargetMode="External"/><Relationship Id="rId2" Type="http://schemas.openxmlformats.org/officeDocument/2006/relationships/hyperlink" Target="http://www.rfp2010.bfs.admin.ch/" TargetMode="External"/><Relationship Id="rId3" Type="http://schemas.openxmlformats.org/officeDocument/2006/relationships/hyperlink" Target="http://www.vz2010.bfs.admin.ch/" TargetMode="External"/><Relationship Id="rId4" Type="http://schemas.openxmlformats.org/officeDocument/2006/relationships/hyperlink" Target="file:///../Documents%20and%20Settings/U3769/Local%20Settings/Temporary%20Internet%20Files/OLK17/www.CFP2010.bfs.admin.ch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920" y="2239920"/>
            <a:ext cx="752328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VZ2010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and der Arbeiten und nächste Termin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560" y="5589360"/>
            <a:ext cx="74293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formationsveranstaltung: Vorbereitung der VZ2010 und der Erhebung Aus- und Weiterbildung 2011 – 8. Oktober 2009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achel Frit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920" y="1197000"/>
            <a:ext cx="7462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Kalender VZ2010/SHAPE: Überbli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25720" y="2103120"/>
            <a:ext cx="1301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14240" y="2448000"/>
            <a:ext cx="70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4880" y="244620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2520" y="2103120"/>
            <a:ext cx="1303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71640" y="2107800"/>
            <a:ext cx="65088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27480" y="2103120"/>
            <a:ext cx="1301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29240" y="2103840"/>
            <a:ext cx="13035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14240" y="5700600"/>
            <a:ext cx="831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01280" y="5027760"/>
            <a:ext cx="832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93360" y="6110280"/>
            <a:ext cx="833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5400" y="572760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5400" y="5027760"/>
            <a:ext cx="114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Umsetz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Registerha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monis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5400" y="2427120"/>
            <a:ext cx="114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berei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Z2010 /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660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108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2428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604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7164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2443320"/>
            <a:ext cx="0" cy="36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26320" y="241920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72240" y="2435400"/>
            <a:ext cx="0" cy="36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75440" y="241920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23120" y="2427120"/>
            <a:ext cx="0" cy="368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60960" y="5486400"/>
            <a:ext cx="784080" cy="187200"/>
          </a:xfrm>
          <a:prstGeom prst="rect">
            <a:avLst/>
          </a:prstGeom>
          <a:solidFill>
            <a:srgbClr val="ff7c80"/>
          </a:solidFill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 anchorCtr="1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.01.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16560" y="2617920"/>
            <a:ext cx="227160" cy="226800"/>
          </a:xfrm>
          <a:prstGeom prst="flowChartDecision">
            <a:avLst/>
          </a:prstGeom>
          <a:solidFill>
            <a:srgbClr val="ed181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71640" y="5156280"/>
            <a:ext cx="32544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Umsetzu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71640" y="2552760"/>
            <a:ext cx="32544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Systemaufba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26040" y="5232240"/>
            <a:ext cx="130320" cy="1666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2552760"/>
            <a:ext cx="10414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26040" y="263520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71640" y="5751360"/>
            <a:ext cx="7160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Aufba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7680" y="5832360"/>
            <a:ext cx="129960" cy="1652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17640" y="5751360"/>
            <a:ext cx="17589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Roll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76600" y="5837400"/>
            <a:ext cx="130320" cy="1648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24280" y="4670280"/>
            <a:ext cx="20844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Aufba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08680" y="4767120"/>
            <a:ext cx="131760" cy="1666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05760" y="2870280"/>
            <a:ext cx="4712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Publi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kation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16640" y="2870280"/>
            <a:ext cx="6588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6040" y="3968640"/>
            <a:ext cx="12970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Erhebu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43720" y="4319640"/>
            <a:ext cx="11793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Erhebu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06840" y="3968640"/>
            <a:ext cx="14018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Vorbereitu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4040280"/>
            <a:ext cx="130320" cy="1648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16640" y="405288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8120" y="3968640"/>
            <a:ext cx="96192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Datenauf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50000" y="3968640"/>
            <a:ext cx="5828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Result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20040" y="4052880"/>
            <a:ext cx="12996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83080" y="4319640"/>
            <a:ext cx="10414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Vorbereitu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19880" y="4397400"/>
            <a:ext cx="131760" cy="1652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75760" y="2455920"/>
            <a:ext cx="0" cy="36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32840" y="4044960"/>
            <a:ext cx="129960" cy="1652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40440" y="4670280"/>
            <a:ext cx="29876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Ziehung quartalswe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68960" y="2930400"/>
            <a:ext cx="130320" cy="1652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6920" y="4324320"/>
            <a:ext cx="8892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Daten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auf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16960" y="4416480"/>
            <a:ext cx="129960" cy="1648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26320" y="2107800"/>
            <a:ext cx="1301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28080" y="2432160"/>
            <a:ext cx="0" cy="36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36120" y="4416480"/>
            <a:ext cx="12996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99400" y="2863800"/>
            <a:ext cx="5763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74120" y="2932200"/>
            <a:ext cx="129960" cy="1648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16880" y="2863800"/>
            <a:ext cx="47160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Publi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kation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440" y="2924280"/>
            <a:ext cx="130320" cy="16488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85240" y="2925720"/>
            <a:ext cx="130320" cy="1652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874000" y="4319640"/>
            <a:ext cx="1540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51400" y="3236760"/>
            <a:ext cx="5716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Erhebu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48360" y="3232080"/>
            <a:ext cx="57168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Daten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auf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29400" y="3300480"/>
            <a:ext cx="13032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15160" y="330048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58280" y="3238560"/>
            <a:ext cx="57132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Erhebu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54880" y="3233880"/>
            <a:ext cx="630360" cy="301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Daten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auf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991720" y="3301920"/>
            <a:ext cx="12996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330192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26040" y="3605040"/>
            <a:ext cx="6080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Omni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bus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1760" y="368928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53240" y="3605040"/>
            <a:ext cx="3981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n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f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3676680"/>
            <a:ext cx="13032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16640" y="3606840"/>
            <a:ext cx="5018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Omni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bus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12000" y="369108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37280" y="3606840"/>
            <a:ext cx="39852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n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f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35800" y="3678120"/>
            <a:ext cx="130320" cy="1638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23080" y="3608280"/>
            <a:ext cx="47484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Omni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bus 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91440" y="3692520"/>
            <a:ext cx="13032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17080" y="3608280"/>
            <a:ext cx="3981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n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f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715240" y="3679920"/>
            <a:ext cx="13032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97760" y="5192640"/>
            <a:ext cx="130320" cy="1666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10360" y="5477040"/>
            <a:ext cx="981360" cy="187200"/>
          </a:xfrm>
          <a:prstGeom prst="rect">
            <a:avLst/>
          </a:prstGeom>
          <a:solidFill>
            <a:srgbClr val="ff7c80"/>
          </a:solidFill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WID eingefüh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6920" y="5751360"/>
            <a:ext cx="44211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782960" y="2473200"/>
            <a:ext cx="30240" cy="37004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959680" y="534024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192640" y="53355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7160" y="5170320"/>
            <a:ext cx="1290960" cy="301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Abschlussarbeit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8120" y="5251320"/>
            <a:ext cx="129960" cy="16668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8880" y="1916280"/>
            <a:ext cx="129960" cy="163440"/>
          </a:xfrm>
          <a:prstGeom prst="flowChartDecision">
            <a:avLst/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88840" y="1828800"/>
            <a:ext cx="17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perativer Mil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17640" y="1916280"/>
            <a:ext cx="130320" cy="163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47960" y="1828800"/>
            <a:ext cx="14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rste Resul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285264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Registererheb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Strukturerheb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3573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Omni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933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Mobilität und Verke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2926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Aus- und Weiterbild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465300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ed181e"/>
                </a:solidFill>
                <a:latin typeface="Calibri"/>
              </a:rPr>
              <a:t>Stichprobenrah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133992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Mikrozensus Mobilität und Verkehr (MZMV201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1080" y="2491920"/>
            <a:ext cx="746280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0">
              <a:lnSpc>
                <a:spcPts val="2599"/>
              </a:lnSpc>
              <a:buNone/>
              <a:tabLst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tegration regionale Partner abgeschlo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spcAft>
                <a:spcPts val="1250"/>
              </a:spcAft>
              <a:buNone/>
              <a:tabLst>
                <a:tab algn="l" pos="0"/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(Total der Aufstockungen: + 20’5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esterhebung läu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atenerhebung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an. 2010 – Jan.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rste Resultate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z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0"/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148572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Registererheb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58920" y="2349360"/>
            <a:ext cx="74628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0">
              <a:lnSpc>
                <a:spcPts val="2599"/>
              </a:lnSpc>
              <a:spcAft>
                <a:spcPts val="1125"/>
              </a:spcAft>
              <a:buNone/>
              <a:tabLst>
                <a:tab algn="l" pos="0"/>
                <a:tab algn="l" pos="44604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ieferungen 2010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(Referenzdate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ieferungen für die Tests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31.03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Aft>
                <a:spcPts val="1250"/>
              </a:spcAft>
              <a:buNone/>
              <a:tabLst>
                <a:tab algn="l" pos="0"/>
                <a:tab algn="l" pos="44604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30.06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ieferung für Stichprobenziehung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trukturerhebung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30.09.10</a:t>
            </a:r>
            <a:r>
              <a:rPr b="0" lang="fr-CH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ieferung VZ2010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31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44604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aten zu Personen 2010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nde August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44604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aten zu Haushalten + Geb.&amp;W. 2010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nde Dez.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trukturerheb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920" y="2494080"/>
            <a:ext cx="74628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spcAft>
                <a:spcPts val="1250"/>
              </a:spcAft>
              <a:buNone/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ufstockung x4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tädte von Bern und Zü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ufstockung x2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bis am 31. Dezember 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Referenztag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31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rste Resultate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z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ooling über 3 Jahre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nd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ooling über 5 Jahre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n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Mikrozensus Aus- und Weiterbildung </a:t>
            </a:r>
            <a:br>
              <a:rPr sz="2800"/>
            </a:b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(MZB 2011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57200" y="2958840"/>
            <a:ext cx="7462800" cy="29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emenkatalog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spcAft>
                <a:spcPts val="1250"/>
              </a:spcAft>
              <a:buNone/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ragenbogenentwurf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rledigt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ufstockung – Bestellung Kte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an. – Ende März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atenerhebung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an. – Dez.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rste Resultate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zember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Omnibu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57200" y="2817720"/>
            <a:ext cx="7462800" cy="28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Omnibus 2010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urvey zur Informations- und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Kommunikationsgesellscha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atenerhebung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Mitte April – Mitte Mai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ublikation der Resultate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Mitte Novembe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emen für 2011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Oktobe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chweiz. Gesundheitsbefragung</a:t>
            </a:r>
            <a:br>
              <a:rPr sz="2800"/>
            </a:b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(SGB 201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5280" y="2420640"/>
            <a:ext cx="74628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0">
              <a:lnSpc>
                <a:spcPts val="2599"/>
              </a:lnSpc>
              <a:buNone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buNone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formation zur Erhebung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Herbst 2010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ufstockung – Bestellund Kte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an. – Ende März 20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atenerhebung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an. – Dezember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rste Resultate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zember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ts val="2599"/>
              </a:lnSpc>
              <a:spcAft>
                <a:spcPts val="1250"/>
              </a:spcAft>
              <a:buNone/>
              <a:tabLst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141264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Kontakt / Informa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5280" y="2096640"/>
            <a:ext cx="74628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242244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ervice clientè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0">
              <a:lnSpc>
                <a:spcPts val="2599"/>
              </a:lnSpc>
              <a:buNone/>
              <a:tabLst>
                <a:tab algn="l" pos="0"/>
                <a:tab algn="l" pos="242244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ontag - Frei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0">
              <a:lnSpc>
                <a:spcPts val="2599"/>
              </a:lnSpc>
              <a:buNone/>
              <a:tabLst>
                <a:tab algn="l" pos="0"/>
                <a:tab algn="l" pos="242244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8h30 – 12h00 / 13h30 – 16h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0">
              <a:lnSpc>
                <a:spcPts val="2599"/>
              </a:lnSpc>
              <a:spcAft>
                <a:spcPts val="2500"/>
              </a:spcAft>
              <a:buNone/>
              <a:tabLst>
                <a:tab algn="l" pos="0"/>
                <a:tab algn="l" pos="242244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el. 0800 866 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242244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nsus@bfs.admin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Aft>
                <a:spcPts val="1312"/>
              </a:spcAft>
              <a:buNone/>
              <a:tabLst>
                <a:tab algn="l" pos="0"/>
                <a:tab algn="l" pos="242244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Aft>
                <a:spcPts val="1312"/>
              </a:spcAft>
              <a:buClr>
                <a:srgbClr val="000000"/>
              </a:buClr>
              <a:buFont typeface="Arial"/>
              <a:buChar char="•"/>
              <a:tabLst>
                <a:tab algn="l" pos="242244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Dokumentation: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FP2010.bfs.admin.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Aft>
                <a:spcPts val="1312"/>
              </a:spcAft>
              <a:buNone/>
              <a:tabLst>
                <a:tab algn="l" pos="0"/>
                <a:tab algn="l" pos="242244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VZ2010.bfs.admin.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0">
              <a:lnSpc>
                <a:spcPts val="2599"/>
              </a:lnSpc>
              <a:spcAft>
                <a:spcPts val="1312"/>
              </a:spcAft>
              <a:buNone/>
              <a:tabLst>
                <a:tab algn="l" pos="0"/>
                <a:tab algn="l" pos="242244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FP2010.bfs.admin.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5:12:33Z</dcterms:created>
  <dc:creator>Michel Gentile</dc:creator>
  <dc:description/>
  <dc:language>en-US</dc:language>
  <cp:lastModifiedBy>Sonia Donzé</cp:lastModifiedBy>
  <cp:lastPrinted>2003-11-14T16:51:38Z</cp:lastPrinted>
  <dcterms:modified xsi:type="dcterms:W3CDTF">2009-10-06T08:08:34Z</dcterms:modified>
  <cp:revision>312</cp:revision>
  <dc:subject/>
  <dc:title>Workshop                 – Service de validation</dc:title>
</cp:coreProperties>
</file>